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0A895-4BA8-41C9-981E-E94A926BF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A87A5-915E-424B-B920-C7A7BD19C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B51F-466D-4D9D-9916-99162CC32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BBC8-D436-4217-BCF0-981692B75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3B5D-7A0D-4B9F-A876-1EFC6433C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72A1-154B-41C0-A542-DFF532596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657A-2B59-49A6-A156-C69A0A134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58A7-0C4F-4B58-9479-716BE2FF9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3D3E-F613-47E5-A151-E7EEF6C8E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2E11-6F07-4528-8819-F6C75E7E4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910B-A458-40FA-A929-8EC58C735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6D2E-9902-4508-82AE-44B976EE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5562-8F4B-4850-8FB2-B01FEB3F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A078-2396-4F0F-B918-D195DA34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9264B-9C67-4123-8C69-4A4F977A6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Joselly Juar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Joselly Juarez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Joselly Juarez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Joselly Juarez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2514600" y="1905120"/>
            <a:ext cx="4952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Buenos Tardes, Yo quiero bailo!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2670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Salva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05320"/>
            <a:ext cx="17528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Me llamo Joselly.  Yo vivo en la ciudad Astoria.  Tengo catorse años.  Yo no tengo hermanos. Soy símpatica y muy perezosa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m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n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6"/>
          <p:cNvSpPr/>
          <p:nvPr/>
        </p:nvSpPr>
        <p:spPr>
          <a:xfrm flipH="1">
            <a:off x="1066680" y="4952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743200" y="3962520"/>
            <a:ext cx="4114800" cy="6094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No! Tengo mucho tarea.  Estoy mucho consada.  Y sí, me encanta baila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assm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819520" y="3276720"/>
            <a:ext cx="4038480" cy="5331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Buenos Días, quiero va al parque? ¿En Serio, tu eres una bailarín?      Amy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743200" y="2590920"/>
            <a:ext cx="3886200" cy="5331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Tu está loca.  Yo soy buena bailarín.                                            Yassm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971800" y="4724280"/>
            <a:ext cx="3733920" cy="3812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Hola, cuantos tareas tenemos?                                         Salva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666880" y="525780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Tu es muy fastidioso.                                                                                Yassm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2743200" y="6019920"/>
            <a:ext cx="4038480" cy="5331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Qué quieres hacer? Estoy aburrido.  ¿Tienes una impresora?            Salva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1219320" y="510552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assm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838080" y="609588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f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6T15:00:03Z</dcterms:modified>
  <cp:revision>110</cp:revision>
  <dc:subject/>
  <dc:title>Profile</dc:title>
</cp:coreProperties>
</file>